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357-2CEE-4498-AF32-3B4D73AF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563-4CA7-4CA8-A1BB-FE09383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EBC-FBB8-4898-9F28-246645D4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2CA-C12F-462B-A487-73C23C46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8679-C47A-4761-9BDD-CAE591B2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4E59-2D37-4C64-AEB2-528B092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459C-37E1-4539-80EC-A39DD064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3B3-4774-4A7E-BC72-9450348E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44B8-7FA9-49FB-B922-A0F9F011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1AF7-FAE8-4D43-B93C-07106C2C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6DC4-CFA9-4E16-82EA-BF155DD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B39-F243-467C-8CDA-C2E90E7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693A-5D10-4054-9863-A0F1E9E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4347-3563-466E-9DCA-7275EEC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7D8-21C0-4947-8DAC-29457047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F880-EC84-4E62-8AC7-3F96796B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DCF-02D5-419C-A0D3-E4E0C5DA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A24-D4CF-4A8F-AE15-B048D615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409-028C-4C73-87BD-3366664C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DF8-2B7F-47EB-AFB8-083ABE46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A86-5140-4461-B612-4E6ECCA4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2BD-6B32-4212-8C45-F192AAE2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DAE-AD9D-4B8C-94C2-7A65E6D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C39-C0E3-4C93-8E49-3015ECB6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93B2-7493-48DE-AC2E-4745EB059729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9B84-4C48-4179-8A7F-7F7153CE6857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Lucida Grande"/>
              </a:rPr>
              <a:t>Windows Movie Maker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/6-12/Session 2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27560" y="24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title animations, fonts, and transitions have enhanced your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observed how title sequences, and transitions can add to or subtract from the overall impact of a movi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customize our movie using titles, transitions, and video effect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we import digital images into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ok and feel of our movie can be affected by the title sequence and transitions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lesson will focus on the following skill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opening and closing title sequenc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still images into Movie Mak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dding transitions between scen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image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digital camer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 (www.pics4learning.org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canning a digital picture into the compu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titles and transitions enhance a 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pictures into Movie Mak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a title sequ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transit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lesson 2 for specific dire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Take the next 30 minutes to import still images into Movie Maker. Add titles and transitions to your movies. After 30 minutes we will come back together and shar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Connect the digital still camera to the computer (if available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Download and save the sample digital pictures. (web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Import digital pictures into Movie Maker and include two pictures in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Add titles and transitions to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99"/>
              </a:spcAft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Save your Movie Maker project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11T19:19:53Z</dcterms:modified>
  <cp:revision>34</cp:revision>
  <dc:subject/>
  <dc:title>Workshop Title</dc:title>
</cp:coreProperties>
</file>